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6C12-8A3C-4B01-AEB0-C1AF2EE0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6806-0FD9-48B8-9481-D41635FE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770A-4006-4239-9057-3C82E06C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C813-31F7-4583-9314-495DB55D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583-7829-4028-BD98-6256AA92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993B-7747-4B87-B11D-E4ABB3B2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EC54-3CDC-4E75-BA9A-332F3B29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CA4E-23F0-4C21-BC93-A2978BD8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84D2-C9EB-43DA-946D-5C0ED041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725E-0639-4B41-91F6-9684B0C8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61D9-CC2E-4D94-9097-4C638BE7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409B-E71E-4E95-8B91-FAA2A7B7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1980-10E7-45C9-8AFB-230B738E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5C83-6572-4600-8842-C7F30634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94CB-D269-40DE-8B16-FCDA47F1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F376-7F14-41B3-8F14-9CE17467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1A47-5CCB-44C1-BBA5-19AB20A4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E19E-C516-4A16-8758-45FDF8AA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2892-7B7C-4CCA-AB7E-30DD967F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34CFC-F736-402A-BDDA-9A0E2118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C5C7-51E6-4195-98FD-3D02A1D8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ED952-2C96-4548-83AE-2DDA1515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2EBA2-5AC9-4D2D-8B2C-906DAC92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DE93F-5784-4261-B947-800C1EE8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FF7C0-D6C0-4653-B995-7A3C9EC8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142F9-B629-42D9-9CBA-9B5884F8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66F4C-80CE-44BF-A1AD-0D391203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72EF0-3CEB-4C90-B29B-965AEDF6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789A5-146A-4C19-A2A6-14C3E9C0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2DBDB-94D0-42C4-A9BF-03E2687C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42DB8-2762-4ECE-AEBA-9E1AD04F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DEA-0808-4531-A7C7-9A9F2D94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F769E-4B6C-4486-A9D0-7549F88E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F10EE-5D6A-41F7-835E-44FA0F12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7E5DE-E757-4C7C-88E9-550A63B3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8B6E8-04AB-41EF-B4CC-AED6BBD6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A72B6-4471-43CF-B03B-95AAE624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7AF2E-756E-49CE-B003-39D06592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16DD5-68FC-4AF2-A9D0-1A690D74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03A64-8F73-4810-A7A1-F9A96EBE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A7250-B4A0-456C-AC5C-4CAD84FF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1FC39-694C-40A7-9DB8-BFE899B2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923D-EACD-46B1-8E05-690812B9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7BE6B-BB3C-4DD3-930C-91F7D161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3E835-1EF6-4B22-8755-9AF717D4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89847-102B-41C8-9E34-C5D3FB1C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21D9-2C5E-4970-8362-AF1EE40F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CB79-DA35-4425-A959-BD7779C8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E4D12FEE-C68E-49D7-8C47-2FBDF2A17F1D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2A27354F-F0F9-41FC-9B66-1BBF8F8C9073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A79E164A-574E-45D7-9676-A1BF4215BA0E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F38D8201-C23C-4819-A184-32552D9A6089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1988640"/>
            <a:ext cx="10157040" cy="792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71000"/>
          </a:bodyPr>
          <a:p>
            <a:pPr marL="214920" indent="-2149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W jakich okolicznościach układamy poszkodowanego w pozycji czterokończynowej, a w jakich w pozycji bezpiecznej?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98440" y="1844280"/>
            <a:ext cx="10220400" cy="3102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W pozycji czterokończynowej układamy poszkodowanego </a:t>
            </a:r>
            <a:br>
              <a:rPr sz="2400"/>
            </a:b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w sytuacji omdlenia, a w pozycji bezpiecznej w sytuacji utraty przytomności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50:3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